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wmf" ContentType="image/x-wmf"/>
  <Override PartName="/ppt/media/image1.png" ContentType="image/png"/>
  <Override PartName="/ppt/media/image17.gif" ContentType="image/gif"/>
  <Override PartName="/ppt/media/image16.jpeg" ContentType="image/jpeg"/>
  <Override PartName="/ppt/media/image14.png" ContentType="image/png"/>
  <Override PartName="/ppt/media/image13.png" ContentType="image/png"/>
  <Override PartName="/ppt/media/jep3.wav" ContentType="audio/x-wav"/>
  <Override PartName="/ppt/media/image8.gif" ContentType="image/gif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E2B2-28B5-4539-B98A-6860B456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82DF-8F59-49D6-ADF5-4433053B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34D2-7F3C-43AC-BF26-C18C0A2F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7D3C-2FC8-474E-9203-40F1D8C8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2F37-ACE6-4CF6-98D9-425AC2E1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B00B-2AD0-478E-A62B-BC596882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51A8-F2E0-46AC-A086-93352206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D3B2-EF6A-4196-AAAE-0A3F08CE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488C-6858-4218-8E90-3216CD0E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C187-B357-47F4-952B-FFCD2B6B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C60C-E00A-4B5C-9BBE-19045659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618B-8F8E-411F-BA73-EA259492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D1D4-A9D4-44BF-9BD6-292C5B18F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9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14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20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25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30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5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0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15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21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26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31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6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1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16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22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27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32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7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12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1.png"/><Relationship Id="rId63" Type="http://schemas.openxmlformats.org/officeDocument/2006/relationships/slide" Target="slide23.xml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2.png"/><Relationship Id="rId67" Type="http://schemas.openxmlformats.org/officeDocument/2006/relationships/image" Target="../media/image1.png"/><Relationship Id="rId68" Type="http://schemas.openxmlformats.org/officeDocument/2006/relationships/slide" Target="slide33.xml"/><Relationship Id="rId69" Type="http://schemas.openxmlformats.org/officeDocument/2006/relationships/image" Target="../media/image2.png"/><Relationship Id="rId70" Type="http://schemas.openxmlformats.org/officeDocument/2006/relationships/image" Target="../media/image1.png"/><Relationship Id="rId71" Type="http://schemas.openxmlformats.org/officeDocument/2006/relationships/slide" Target="slide8.xml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slide" Target="slide13.xml"/><Relationship Id="rId75" Type="http://schemas.openxmlformats.org/officeDocument/2006/relationships/image" Target="../media/image2.png"/><Relationship Id="rId76" Type="http://schemas.openxmlformats.org/officeDocument/2006/relationships/image" Target="../media/image1.png"/><Relationship Id="rId77" Type="http://schemas.openxmlformats.org/officeDocument/2006/relationships/slide" Target="slide19.xml"/><Relationship Id="rId78" Type="http://schemas.openxmlformats.org/officeDocument/2006/relationships/image" Target="../media/image2.png"/><Relationship Id="rId79" Type="http://schemas.openxmlformats.org/officeDocument/2006/relationships/image" Target="../media/image1.png"/><Relationship Id="rId80" Type="http://schemas.openxmlformats.org/officeDocument/2006/relationships/slide" Target="slide24.xml"/><Relationship Id="rId81" Type="http://schemas.openxmlformats.org/officeDocument/2006/relationships/image" Target="../media/image2.png"/><Relationship Id="rId82" Type="http://schemas.openxmlformats.org/officeDocument/2006/relationships/image" Target="../media/image1.png"/><Relationship Id="rId83" Type="http://schemas.openxmlformats.org/officeDocument/2006/relationships/slide" Target="slide29.xml"/><Relationship Id="rId84" Type="http://schemas.openxmlformats.org/officeDocument/2006/relationships/image" Target="../media/image2.png"/><Relationship Id="rId85" Type="http://schemas.openxmlformats.org/officeDocument/2006/relationships/image" Target="../media/image1.png"/><Relationship Id="rId86" Type="http://schemas.openxmlformats.org/officeDocument/2006/relationships/slide" Target="slide34.xml"/><Relationship Id="rId87" Type="http://schemas.openxmlformats.org/officeDocument/2006/relationships/image" Target="../media/image2.png"/><Relationship Id="rId88" Type="http://schemas.openxmlformats.org/officeDocument/2006/relationships/image" Target="../media/image1.png"/><Relationship Id="rId89" Type="http://schemas.openxmlformats.org/officeDocument/2006/relationships/image" Target="../media/image1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3.jpeg"/><Relationship Id="rId95" Type="http://schemas.openxmlformats.org/officeDocument/2006/relationships/image" Target="../media/image4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5.png"/><Relationship Id="rId98" Type="http://schemas.openxmlformats.org/officeDocument/2006/relationships/image" Target="../media/image6.png"/><Relationship Id="rId99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447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“dangerous” legislation lists animals, plants and mo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4479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Bummer dude, this a negative affect on humans if we lose different species. </a:t>
            </a:r>
            <a:r>
              <a:rPr b="0" lang="en-US" sz="54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is one way in which biodiversity can be preserve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914400"/>
            <a:ext cx="914400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ey you!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increase has had the most negative effect on the ecosystems of the Eart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2952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semi-permeable layer separates a cell from its neighbor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2193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se cells use chemical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alled neurotransmitter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o “jump the gap.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2952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se chemicals produced by endocrine glands control other parts of the bod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447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Like antennae, these molecules allow a cell to receive signal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6858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Just ask your Aunt, White Blood cells can tell “friend or foe” based upon these protein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xygen, glucose, and wastes move in this high to low flow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21337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“uphill battle” moves substances such as Ca from low to high areas of concentra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4479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“micro-fold” enables you to absorb your nutrients more efficiently in the small intestin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6002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change in content of the blood goes from this to this in the microscopic air sacs known as alveoli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0666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vascular tubes of the tracheophytes &amp; their directions of flow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6858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reproductive structure is only found in animals with internal fertiliza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is known as the release of the egg from the ovar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8380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n addition to sex hormones, these structures produce the male gametes and female gametes respectivel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Either of the two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urgical procedur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at interfere with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transfe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f sperm from the ma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o the femal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371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roduction of these 4 hormones controls the menstrual cycl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creenj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lue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3" name="screenj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lue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6" name="screenj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lue" descr="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screenj" descr="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lue" descr="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screenj" descr="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lue" descr="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screenj" descr=""/>
          <p:cNvPicPr/>
          <p:nvPr/>
        </p:nvPicPr>
        <p:blipFill>
          <a:blip r:embed="rId15"/>
          <a:stretch/>
        </p:blipFill>
        <p:spPr>
          <a:xfrm>
            <a:off x="7819920" y="1981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lue" descr="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screenj" descr="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lue" descr="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screenj" descr="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blue" descr="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screenj" descr="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blue" descr="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screenj" descr="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blue" descr="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screenj" descr="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blue" descr="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screenj" descr="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blue" descr="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screenj" descr="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blue" descr="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89" name="screenj" descr="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blue" descr="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2" name="screenj" descr="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lue" descr="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screenj" descr="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lue" descr="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screenj" descr="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blue" descr="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screenj" descr="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blue" descr="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screenj" descr="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lue" descr="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07" name="screenj" descr="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blue" descr="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0" name="screenj" descr="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lue" descr=""/>
          <p:cNvPicPr/>
          <p:nvPr/>
        </p:nvPicPr>
        <p:blipFill>
          <a:blip r:embed="rId61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screenj" descr=""/>
          <p:cNvPicPr/>
          <p:nvPr/>
        </p:nvPicPr>
        <p:blipFill>
          <a:blip r:embed="rId62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3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blue" descr=""/>
          <p:cNvPicPr/>
          <p:nvPr/>
        </p:nvPicPr>
        <p:blipFill>
          <a:blip r:embed="rId64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screenj" descr=""/>
          <p:cNvPicPr/>
          <p:nvPr/>
        </p:nvPicPr>
        <p:blipFill>
          <a:blip r:embed="rId65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blue" descr=""/>
          <p:cNvPicPr/>
          <p:nvPr/>
        </p:nvPicPr>
        <p:blipFill>
          <a:blip r:embed="rId66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screenj" descr=""/>
          <p:cNvPicPr/>
          <p:nvPr/>
        </p:nvPicPr>
        <p:blipFill>
          <a:blip r:embed="rId67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lue" descr=""/>
          <p:cNvPicPr/>
          <p:nvPr/>
        </p:nvPicPr>
        <p:blipFill>
          <a:blip r:embed="rId69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screenj" descr=""/>
          <p:cNvPicPr/>
          <p:nvPr/>
        </p:nvPicPr>
        <p:blipFill>
          <a:blip r:embed="rId70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1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blue" descr=""/>
          <p:cNvPicPr/>
          <p:nvPr/>
        </p:nvPicPr>
        <p:blipFill>
          <a:blip r:embed="rId72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screenj" descr=""/>
          <p:cNvPicPr/>
          <p:nvPr/>
        </p:nvPicPr>
        <p:blipFill>
          <a:blip r:embed="rId73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blue" descr=""/>
          <p:cNvPicPr/>
          <p:nvPr/>
        </p:nvPicPr>
        <p:blipFill>
          <a:blip r:embed="rId75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screenj" descr=""/>
          <p:cNvPicPr/>
          <p:nvPr/>
        </p:nvPicPr>
        <p:blipFill>
          <a:blip r:embed="rId76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7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blue" descr=""/>
          <p:cNvPicPr/>
          <p:nvPr/>
        </p:nvPicPr>
        <p:blipFill>
          <a:blip r:embed="rId78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screenj" descr=""/>
          <p:cNvPicPr/>
          <p:nvPr/>
        </p:nvPicPr>
        <p:blipFill>
          <a:blip r:embed="rId79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blue" descr=""/>
          <p:cNvPicPr/>
          <p:nvPr/>
        </p:nvPicPr>
        <p:blipFill>
          <a:blip r:embed="rId81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screenj" descr=""/>
          <p:cNvPicPr/>
          <p:nvPr/>
        </p:nvPicPr>
        <p:blipFill>
          <a:blip r:embed="rId82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blue" descr=""/>
          <p:cNvPicPr/>
          <p:nvPr/>
        </p:nvPicPr>
        <p:blipFill>
          <a:blip r:embed="rId84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screenj" descr=""/>
          <p:cNvPicPr/>
          <p:nvPr/>
        </p:nvPicPr>
        <p:blipFill>
          <a:blip r:embed="rId85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lue" descr=""/>
          <p:cNvPicPr/>
          <p:nvPr/>
        </p:nvPicPr>
        <p:blipFill>
          <a:blip r:embed="rId87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screenj" descr=""/>
          <p:cNvPicPr/>
          <p:nvPr/>
        </p:nvPicPr>
        <p:blipFill>
          <a:blip r:embed="rId88"/>
          <a:stretch/>
        </p:blipFill>
        <p:spPr>
          <a:xfrm>
            <a:off x="0" y="99072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1" name="screenj" descr=""/>
          <p:cNvPicPr/>
          <p:nvPr/>
        </p:nvPicPr>
        <p:blipFill>
          <a:blip r:embed="rId89"/>
          <a:stretch/>
        </p:blipFill>
        <p:spPr>
          <a:xfrm>
            <a:off x="160020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2" name="screenj" descr=""/>
          <p:cNvPicPr/>
          <p:nvPr/>
        </p:nvPicPr>
        <p:blipFill>
          <a:blip r:embed="rId90"/>
          <a:stretch/>
        </p:blipFill>
        <p:spPr>
          <a:xfrm>
            <a:off x="320040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3" name="screenj" descr=""/>
          <p:cNvPicPr/>
          <p:nvPr/>
        </p:nvPicPr>
        <p:blipFill>
          <a:blip r:embed="rId91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4" name="screenj" descr=""/>
          <p:cNvPicPr/>
          <p:nvPr/>
        </p:nvPicPr>
        <p:blipFill>
          <a:blip r:embed="rId92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5" name="screenj" descr=""/>
          <p:cNvPicPr/>
          <p:nvPr/>
        </p:nvPicPr>
        <p:blipFill>
          <a:blip r:embed="rId93"/>
          <a:stretch/>
        </p:blipFill>
        <p:spPr>
          <a:xfrm>
            <a:off x="7819920" y="685800"/>
            <a:ext cx="1324080" cy="1371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3200400" y="11430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ells are talki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9907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Keep on truckin’ trans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In the Wo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48720" y="11430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Giants &amp; dwar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11430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et’s talk about s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jeplogo2" descr=""/>
          <p:cNvPicPr/>
          <p:nvPr/>
        </p:nvPicPr>
        <p:blipFill>
          <a:blip r:embed="rId94"/>
          <a:stretch/>
        </p:blipFill>
        <p:spPr>
          <a:xfrm>
            <a:off x="1370160" y="0"/>
            <a:ext cx="6402240" cy="914400"/>
          </a:xfrm>
          <a:prstGeom prst="rect">
            <a:avLst/>
          </a:prstGeom>
          <a:ln w="0">
            <a:noFill/>
          </a:ln>
        </p:spPr>
      </p:pic>
      <p:pic>
        <p:nvPicPr>
          <p:cNvPr id="152" name="finaljep" descr=""/>
          <p:cNvPicPr/>
          <p:nvPr/>
        </p:nvPicPr>
        <p:blipFill>
          <a:blip r:embed="rId95"/>
          <a:stretch/>
        </p:blipFill>
        <p:spPr>
          <a:xfrm>
            <a:off x="8153280" y="228600"/>
            <a:ext cx="962280" cy="577800"/>
          </a:xfrm>
          <a:prstGeom prst="rect">
            <a:avLst/>
          </a:prstGeom>
          <a:ln w="0">
            <a:noFill/>
          </a:ln>
        </p:spPr>
      </p:pic>
      <p:pic>
        <p:nvPicPr>
          <p:cNvPr id="153" name="applause" descr="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676520" y="12193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Human Impac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8"/>
          <a:stretch/>
        </p:blipFill>
        <p:spPr>
          <a:xfrm>
            <a:off x="12952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15238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obbit, giant, dwarf, wizard or elf. Either too much or too little of this hormon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4572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cromegaly (gigantism) &amp; dwarfism are due to a problem with this “master gland.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295280"/>
            <a:ext cx="914400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roduction of a hormone is usually stopped once enough of it is produced.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dynamic equilibrium is often referred to as th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666880" y="304812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Gigantic thyroid is a failure of homeostasis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condition is caused by a lack of iodine in the die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9907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be Lincoln, Andre the Giant &amp; Mini Me all had this part of the brain that is the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true master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of the master glan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1981080"/>
            <a:ext cx="716292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atural Sele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762120"/>
            <a:ext cx="914400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problem with pests is pesticides.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Explain why this statement is true today for mosquitoes, rats, or invasive speci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914400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7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ensitive pests are killed by the chem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. Resistant pests survive &amp; reproduce (are better adapt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. Offspring have resistance to the chemic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. Resistant pests increase in popul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Zygo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66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.K.A. the fertilized eg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½ of your DNA comes from each par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04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eavage, mitosis, differentiation, or gastrula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724640" cy="31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2666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Uterus or amnion (amniotic sac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1676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Biodiversity or commun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2666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Endangered Species A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0666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moking/drinking during pregnancy, chemicals, pollution, radiation, poor nutrition, or drug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7524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Unstable ecosystems, loss of cures/medicine, loss of food, loss of beauty/inspi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5238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Restrict hunting, stop development, reintroduce species, establish parks/nature preserves, protect spec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uman Popul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1523880"/>
            <a:ext cx="9144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ell membran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lasma membra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0666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“whole” truth &amp; nothing but the truth, this is why your genetic content differs from mom &amp; dad’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1143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Nerve cells or neur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neuron" descr=""/>
          <p:cNvPicPr/>
          <p:nvPr/>
        </p:nvPicPr>
        <p:blipFill>
          <a:blip r:embed="rId2"/>
          <a:stretch/>
        </p:blipFill>
        <p:spPr>
          <a:xfrm>
            <a:off x="1676520" y="2057400"/>
            <a:ext cx="609588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Hormo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8380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Receptor molecu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cell%20membrane" descr=""/>
          <p:cNvPicPr/>
          <p:nvPr/>
        </p:nvPicPr>
        <p:blipFill>
          <a:blip r:embed="rId2"/>
          <a:stretch/>
        </p:blipFill>
        <p:spPr>
          <a:xfrm>
            <a:off x="1600200" y="19810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71600" y="213372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ntige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Diffus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ctive Transpor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91440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Villi (Villus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villi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4495680" cy="4141800"/>
          </a:xfrm>
          <a:prstGeom prst="rect">
            <a:avLst/>
          </a:prstGeom>
          <a:ln w="0">
            <a:noFill/>
          </a:ln>
        </p:spPr>
      </p:pic>
      <p:pic>
        <p:nvPicPr>
          <p:cNvPr id="322" name="villi" descr=""/>
          <p:cNvPicPr/>
          <p:nvPr/>
        </p:nvPicPr>
        <p:blipFill>
          <a:blip r:embed="rId3"/>
          <a:stretch/>
        </p:blipFill>
        <p:spPr>
          <a:xfrm>
            <a:off x="5105520" y="2133720"/>
            <a:ext cx="3763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Deoxygenated to Oxygenat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gas%20exchange" descr=""/>
          <p:cNvPicPr/>
          <p:nvPr/>
        </p:nvPicPr>
        <p:blipFill>
          <a:blip r:embed="rId2"/>
          <a:stretch/>
        </p:blipFill>
        <p:spPr>
          <a:xfrm>
            <a:off x="1600200" y="1447920"/>
            <a:ext cx="61722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1295280"/>
            <a:ext cx="9144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Xylem &amp; phlo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Xy up high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hloe down lo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95880" y="2590920"/>
            <a:ext cx="533520" cy="609480"/>
          </a:xfrm>
          <a:prstGeom prst="upArrow">
            <a:avLst>
              <a:gd name="adj1" fmla="val 50000"/>
              <a:gd name="adj2" fmla="val 2855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0" y="3886200"/>
            <a:ext cx="685800" cy="762120"/>
          </a:xfrm>
          <a:prstGeom prst="downArrow">
            <a:avLst>
              <a:gd name="adj1" fmla="val 50000"/>
              <a:gd name="adj2" fmla="val 2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95280" y="38088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en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rcRect l="21116" t="8333" r="0" b="0"/>
          <a:stretch/>
        </p:blipFill>
        <p:spPr>
          <a:xfrm>
            <a:off x="1905120" y="1447920"/>
            <a:ext cx="5410080" cy="513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6002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ne of the developmental processes that changes a fertilized egg into an embry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vul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58120" y="1828800"/>
            <a:ext cx="479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estes &amp; ovar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rcRect l="45559" t="8333" r="14444" b="0"/>
          <a:stretch/>
        </p:blipFill>
        <p:spPr>
          <a:xfrm>
            <a:off x="457200" y="1295280"/>
            <a:ext cx="2743200" cy="51372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rcRect l="42800" t="0" r="7605" b="40364"/>
          <a:stretch/>
        </p:blipFill>
        <p:spPr>
          <a:xfrm>
            <a:off x="4191120" y="1600200"/>
            <a:ext cx="3886200" cy="44956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0" y="380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Vasectomy or tubal lig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685800" cy="990360"/>
          </a:xfrm>
          <a:prstGeom prst="irregularSeal2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648320" y="2971800"/>
            <a:ext cx="685800" cy="990720"/>
          </a:xfrm>
          <a:prstGeom prst="irregularSeal2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581280"/>
            <a:ext cx="685800" cy="990720"/>
          </a:xfrm>
          <a:prstGeom prst="irregularSeal2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352680"/>
            <a:ext cx="685800" cy="990720"/>
          </a:xfrm>
          <a:prstGeom prst="irregularSeal2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457200"/>
            <a:ext cx="914400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Estro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rogestero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Luteinizing Hormone (LH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Follicle Stimulating Hormone (FSH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2666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Growth Hormo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45720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ituita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632040" cy="52578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Mini Me!"/>
          <p:cNvPicPr/>
          <p:nvPr/>
        </p:nvPicPr>
        <p:blipFill>
          <a:blip r:embed="rId2"/>
          <a:stretch/>
        </p:blipFill>
        <p:spPr>
          <a:xfrm>
            <a:off x="2819520" y="2666880"/>
            <a:ext cx="9586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Negative Feedbac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533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Goi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371600" y="45720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ypothalamu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447920" y="1828800"/>
          <a:ext cx="6019560" cy="3841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828800"/>
                    <a:ext cx="6019560" cy="38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6002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structure in which fetal development usually occur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9810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Got a light?” These are 2 factors that can affect fetal developmen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360" y="1352160"/>
            <a:ext cx="9081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ey Biologist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is the term for the variou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rganisms in a given ecosyste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JOE SAC</dc:creator>
  <dc:description/>
  <dc:language>en-US</dc:language>
  <cp:lastModifiedBy>Joesac</cp:lastModifiedBy>
  <dcterms:modified xsi:type="dcterms:W3CDTF">2006-06-17T01:42:49Z</dcterms:modified>
  <cp:revision>82</cp:revision>
  <dc:subject/>
  <dc:title>June 16 Jeopardy</dc:title>
</cp:coreProperties>
</file>